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750-6FA4-4751-85DE-77623069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ADA-3E3B-4C69-B05C-B67B9B0C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EF5-E75F-47DD-B4B6-B7E2FCF9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522-465C-4800-B633-08C00F5D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96C-D429-4278-8E31-80602ECF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396-466F-4033-87CB-8EEB69FB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9B4-B102-403A-9A2C-EDE5B6A2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20C-E66B-4451-A006-1DC65261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3F1-C8FC-45F9-9FE5-50843C8B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5AE-D8B2-431C-872F-F2910F13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C3F9-2739-4700-9883-A557DC00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164-5D7E-43C1-80C9-BDBEFE7C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EDD6-336E-471F-B764-B45BD56CAD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320" y="1295280"/>
            <a:ext cx="801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oblem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ith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umulative Incid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924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5105520"/>
            <a:ext cx="67053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7238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91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4419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7467480" cy="1067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4419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746748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5867280"/>
            <a:ext cx="1613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4674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467480" cy="990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086600" y="5257800"/>
            <a:ext cx="11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cb017"/>
                </a:solidFill>
                <a:uFillTx/>
                <a:latin typeface="Arial"/>
              </a:rPr>
              <a:t>33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467480" cy="4319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7467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047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14400" y="3581280"/>
            <a:ext cx="7467480" cy="2514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00200" y="4419720"/>
            <a:ext cx="6019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76520" y="5486400"/>
            <a:ext cx="5867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7467480" cy="99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676520" y="541008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62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14400" y="5486400"/>
            <a:ext cx="746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14400" y="5486400"/>
            <a:ext cx="7467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3962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90720" y="434340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990720" y="5334120"/>
            <a:ext cx="7467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14400" y="5257800"/>
            <a:ext cx="7467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162920" y="5867280"/>
            <a:ext cx="12952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1600200"/>
            <a:ext cx="62481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0" y="571500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 = # of new cases during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 = # of disease-free subjects at start of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easures the frequency of addition of new cases of  disease and is always calculated for a given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514600" cy="1901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25189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859360" y="394128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st common way to estimate ri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lways a propor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mes a fixed co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 brief specified periods of time, e.g. an outbreak, commonly called an Attack “R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eware of attr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mula does not reflect continually changing population size for dynamic coh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oes not allow subjects to be followed for different time peri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162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10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162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2T17:27:25Z</dcterms:modified>
  <cp:revision>177</cp:revision>
  <dc:subject/>
  <dc:title>Slide 1</dc:title>
</cp:coreProperties>
</file>